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ct" ContentType="image/x-pict"/>
  <Override PartName="/ppt/media/image4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7.pct" ContentType="image/x-pict"/>
  <Override PartName="/ppt/media/image2.pct" ContentType="image/x-pict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874250" cy="7408863"/>
  <p:notesSz cx="740886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74BB-B0F6-4F1E-A205-4CCF8F17D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839340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0880" y="4461840"/>
            <a:ext cx="839340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19CF-375F-4B21-9DAE-E6AB81DB5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180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0880" y="4461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1800" y="4461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83D3-9A3F-4F8E-B685-1626BCD16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8760" y="2139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17000" y="2139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0880" y="4461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8760" y="4461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17000" y="4461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BC0D-04B0-44E8-B7DA-68D16D025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0880" y="2139840"/>
            <a:ext cx="83934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5B94-BA11-441B-8623-4F0C3BB56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839340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EA0B-96AE-4163-BD23-18EB123D9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409572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1800" y="2139840"/>
            <a:ext cx="409572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F971-B798-47F2-BFD5-2A91F25A0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0F0B-6698-4E22-800B-3AA853777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660240"/>
            <a:ext cx="8393400" cy="57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FF8F-8946-4D1C-9E7A-5C700C6E9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1800" y="2139840"/>
            <a:ext cx="409572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0880" y="4461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2245-32EB-4E12-B7AA-A00ADEC5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409572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180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1800" y="4461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E720-E417-4EB7-AFA0-ABD56BE1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180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0880" y="4461840"/>
            <a:ext cx="839340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D174-4F56-4D5C-BB8A-B2F37F52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81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0880" y="2139840"/>
            <a:ext cx="839340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6960" indent="-2682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3160" indent="-2142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3360" indent="-2160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0320" indent="-2142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0320" indent="-2142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0320" indent="-2142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0880" y="6746760"/>
            <a:ext cx="2057400" cy="495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lstStyle>
            <a:lvl1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0" lang="nl-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nl-NL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74640" y="6746760"/>
            <a:ext cx="3125880" cy="495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lstStyle>
            <a:lvl1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0" lang="nl-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nl-NL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76880" y="6746760"/>
            <a:ext cx="2057400" cy="495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lstStyle>
            <a:lvl1pPr indent="0" algn="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0" lang="nl-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fld id="{F2ABDB68-B503-41F1-8B0C-303C00F509A9}" type="slidenum">
              <a:rPr b="0" lang="nl-N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81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42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5410080"/>
            <a:ext cx="8393400" cy="9907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Organizzazione del genoma uma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259520" y="6781680"/>
            <a:ext cx="136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ezione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733920" y="990720"/>
            <a:ext cx="3538440" cy="39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81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28600" y="1752480"/>
            <a:ext cx="925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40% del genoma e’ composto da gruppi di sequenz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non allelich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che mappano  percio’ in  locus diversi, ma sono strettamente correlate, sono presenti cioe’ sequenze con un numero di copie multi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235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181480" y="609480"/>
            <a:ext cx="4059360" cy="711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amiglie multigeni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2280" y="4038480"/>
            <a:ext cx="9723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radizionalmente sulla base della cinetica di riassociazione il genoma umano e’ suddiviso 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NA a singola copia o con un numero di copie molto bas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NA moderatamente ripeti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NA altamente ripet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81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243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304920" y="1143000"/>
            <a:ext cx="9219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l numero di copie di una sequenza puo’ essere identificato e studiato attraverso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1120" y="2057400"/>
            <a:ext cx="923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l sequenziamento per identificare l’appartenenza di nuove sequen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d una famiglia gia’ descritta e definire il grado di omolog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ra le diverse cop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3494160"/>
            <a:ext cx="991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’analisi su Southern blot di una nuova sequenza clonata rivela 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resenza di un pattern complesso di ibridazione. La sequenza puo’ quind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ssere utilizzata per identificare e clonare le altre. Lo screening di u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ibrary genomica identifica un numero di positivi superiori all’atteso 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nferma la supposizione consentendo il clonaggio delle sequenze correl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04120" y="5562720"/>
            <a:ext cx="9585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 partire da una sequenza nota di cui e’ noto esistere copie nel g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ttraverso l’uso di primers degenerati delle regioni che si suppone si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nservate, si possono amplificare tramite PCR,le altre sequen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86400" y="533160"/>
            <a:ext cx="3906720" cy="7110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amiglie multigeni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81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80880" y="1724040"/>
            <a:ext cx="925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a definizione di famiglia e’ operativa, e’ indipendente dalla natura delle sequen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52280" y="3127320"/>
            <a:ext cx="956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ue sequenze vengono definite come appartenenti alla stessa famiglia quando presentano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mologia di sequenza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anche in una regione ristretta della sequenz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256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621720" y="4924440"/>
            <a:ext cx="905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amiglie multigeniche: DNA ripetuto che contiene gen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unzion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909000" y="6035760"/>
            <a:ext cx="676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amiglie  di sequenze di DNA non ge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181480" y="685440"/>
            <a:ext cx="4135680" cy="4827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amiglie multigeni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81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876920" y="838080"/>
            <a:ext cx="4440240" cy="7876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e2c02"/>
                </a:solidFill>
                <a:latin typeface="Comic Sans MS"/>
              </a:rPr>
              <a:t>Famiglie  multigeni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4920" y="1828800"/>
            <a:ext cx="853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amiglie multigeniche: DNA ripetuto che contiene geni funziona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3352680"/>
            <a:ext cx="952488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 famiglie presentano variabilita’ nella omologia con la sequenza di riferimento e nel grado con cui le sequenze conservate definiscono la famiglia.  Ne deriva che l’appartenenza ad una famiglia e’ data non solo dall’omologia complessiva , ma dal presentare un dominio condiviso o organizzazione simile. Si possono presentare raggruppati o distribuiti nel genoma. Alcuni membri possono essere non funzionali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seudoge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268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81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898560" y="1598760"/>
            <a:ext cx="1839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03120" y="1495440"/>
            <a:ext cx="85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miglie multigeniche: DNA ripetuto che contiene ge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unzion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0" y="2743200"/>
            <a:ext cx="9875880" cy="3886200"/>
          </a:xfrm>
          <a:prstGeom prst="rect">
            <a:avLst/>
          </a:prstGeom>
          <a:ln w="0">
            <a:noFill/>
          </a:ln>
        </p:spPr>
      </p:pic>
      <p:grpSp>
        <p:nvGrpSpPr>
          <p:cNvPr id="276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277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638320" y="609120"/>
            <a:ext cx="3907080" cy="4827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amiglie multigeni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81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49400" y="1981080"/>
            <a:ext cx="9747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pie non funzionali del DNA genomico di un gen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engono esoni, introni  e spesso le sequenze fiancheggianti. Data la loro somiglianz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ll’organizzazione genomica, la loro natura non funzionale puo’ essere riconosciuta,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ivello di sequenza, dalla presenza di codoni di stop nella regione corrispondente al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rzione codificante del gene funzionale o dalla presenza di un’elevato numero d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utazioni ognuna della quali originerebbe  una molecola mutant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no comuni nelle famiglie di geni raggrupp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14200" y="4800600"/>
            <a:ext cx="9528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alvolta possono venire espressi a livello di RNA o addirittura co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olipeptide, che non viene utilizzato nella molecola funziona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gene della globina-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, sicuramente viene espresso, ma non se ne riscontr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a presenza nell’emoglobina funzion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9067680" y="6781680"/>
            <a:ext cx="609840" cy="304920"/>
          </a:xfrm>
          <a:custGeom>
            <a:avLst/>
            <a:gdLst>
              <a:gd name="textAreaLeft" fmla="*/ 95040 w 609840"/>
              <a:gd name="textAreaRight" fmla="*/ 533880 w 60984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287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5880" y="761760"/>
            <a:ext cx="3221280" cy="4064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e2c02"/>
                </a:solidFill>
                <a:latin typeface="Comic Sans MS"/>
              </a:rPr>
              <a:t>Pseudogeni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93640" y="1295280"/>
            <a:ext cx="89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seudogeni non processati : convenzionali ed espressi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81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2362320" y="3782880"/>
            <a:ext cx="685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781320" y="685800"/>
            <a:ext cx="2514600" cy="9144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e2c02"/>
                </a:solidFill>
                <a:latin typeface="Comic Sans MS"/>
              </a:rPr>
              <a:t>Pseudogeni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297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457200" y="1676520"/>
            <a:ext cx="883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rivano da duplicazione genica, per effetto del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versione genica rendono un locus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hot-spo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di mut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72000" y="3630600"/>
            <a:ext cx="380880" cy="22860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105520" y="3630600"/>
            <a:ext cx="380880" cy="22860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3630600"/>
            <a:ext cx="380880" cy="22860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781680" y="3630600"/>
            <a:ext cx="533520" cy="2286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772400" y="3630600"/>
            <a:ext cx="533520" cy="2286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610480" y="3630600"/>
            <a:ext cx="381240" cy="228600"/>
          </a:xfrm>
          <a:prstGeom prst="cube">
            <a:avLst>
              <a:gd name="adj" fmla="val 25000"/>
            </a:avLst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3630600"/>
            <a:ext cx="533520" cy="2286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194280" y="3132000"/>
            <a:ext cx="459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96320" y="3211560"/>
            <a:ext cx="68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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946040" y="3224160"/>
            <a:ext cx="708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637960" y="3224160"/>
            <a:ext cx="708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791760" y="3187800"/>
            <a:ext cx="508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787160" y="3187800"/>
            <a:ext cx="508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617680" y="3263760"/>
            <a:ext cx="3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24080" y="393552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781680" y="393552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848720" y="3935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610480" y="393552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7080" y="3255840"/>
            <a:ext cx="208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aggrupp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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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6p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362320" y="5078520"/>
            <a:ext cx="685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419720" y="4925880"/>
            <a:ext cx="533160" cy="22860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105520" y="4925880"/>
            <a:ext cx="533160" cy="22860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62760" y="4925880"/>
            <a:ext cx="380880" cy="22860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162920" y="4925880"/>
            <a:ext cx="533160" cy="2286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229600" y="4925880"/>
            <a:ext cx="533520" cy="2286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124080" y="4925880"/>
            <a:ext cx="533520" cy="2286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87080" y="4427640"/>
            <a:ext cx="33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371120" y="4545000"/>
            <a:ext cx="6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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901120" y="4519440"/>
            <a:ext cx="60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143480" y="4483080"/>
            <a:ext cx="459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236080" y="448308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124080" y="523080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162920" y="523080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305920" y="523080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013000" y="45450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51560" y="4424400"/>
            <a:ext cx="20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aggrupp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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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1p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495680" y="523080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181480" y="523080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362320" y="6373800"/>
            <a:ext cx="685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791320" y="6221520"/>
            <a:ext cx="533160" cy="22860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934320" y="6221520"/>
            <a:ext cx="533160" cy="2286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229600" y="6221520"/>
            <a:ext cx="533520" cy="2286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124080" y="6221520"/>
            <a:ext cx="533520" cy="2286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124080" y="65260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934320" y="65260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305920" y="65260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867280" y="65260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95680" y="6221520"/>
            <a:ext cx="381240" cy="228600"/>
          </a:xfrm>
          <a:prstGeom prst="cube">
            <a:avLst>
              <a:gd name="adj" fmla="val 25000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3280" y="5846760"/>
            <a:ext cx="208116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aggrupp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rmone del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scita 17q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918880" y="5886360"/>
            <a:ext cx="91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CH-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345560" y="5886360"/>
            <a:ext cx="6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S-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704200" y="5886360"/>
            <a:ext cx="6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S-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731280" y="588636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CH-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120880" y="5886360"/>
            <a:ext cx="6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S-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444920" y="65260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81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10080" y="685440"/>
            <a:ext cx="2764080" cy="9399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e2c02"/>
                </a:solidFill>
                <a:latin typeface="Comic Sans MS"/>
              </a:rPr>
              <a:t>Pseudogeni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360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380880" y="1828800"/>
            <a:ext cx="922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rivano da duplicazione genica e accumulo progressivo di muta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04920" y="4648320"/>
            <a:ext cx="838080" cy="22860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286000" y="4114800"/>
            <a:ext cx="838080" cy="22860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286000" y="5257800"/>
            <a:ext cx="838080" cy="2286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419720" y="4114800"/>
            <a:ext cx="838080" cy="22860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419720" y="5257800"/>
            <a:ext cx="838080" cy="228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934320" y="4952880"/>
            <a:ext cx="838080" cy="228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934320" y="4114800"/>
            <a:ext cx="838080" cy="22860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934320" y="5791320"/>
            <a:ext cx="838080" cy="228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40360" y="4191120"/>
            <a:ext cx="35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438280" y="3886200"/>
            <a:ext cx="685800" cy="152280"/>
          </a:xfrm>
          <a:custGeom>
            <a:avLst/>
            <a:gdLst>
              <a:gd name="textAreaLeft" fmla="*/ 119880 w 685800"/>
              <a:gd name="textAreaRight" fmla="*/ 497160 w 685800"/>
              <a:gd name="textAreaTop" fmla="*/ 20160 h 152280"/>
              <a:gd name="textAreaBottom" fmla="*/ 1321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495680" y="3886200"/>
            <a:ext cx="685800" cy="152280"/>
          </a:xfrm>
          <a:custGeom>
            <a:avLst/>
            <a:gdLst>
              <a:gd name="textAreaLeft" fmla="*/ 119880 w 685800"/>
              <a:gd name="textAreaRight" fmla="*/ 497160 w 685800"/>
              <a:gd name="textAreaTop" fmla="*/ 20160 h 152280"/>
              <a:gd name="textAreaBottom" fmla="*/ 1321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010280" y="3886200"/>
            <a:ext cx="685800" cy="152280"/>
          </a:xfrm>
          <a:custGeom>
            <a:avLst/>
            <a:gdLst>
              <a:gd name="textAreaLeft" fmla="*/ 119880 w 685800"/>
              <a:gd name="textAreaRight" fmla="*/ 497160 w 685800"/>
              <a:gd name="textAreaTop" fmla="*/ 20160 h 152280"/>
              <a:gd name="textAreaBottom" fmla="*/ 1321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010280" y="4724280"/>
            <a:ext cx="685800" cy="152640"/>
          </a:xfrm>
          <a:custGeom>
            <a:avLst/>
            <a:gdLst>
              <a:gd name="textAreaLeft" fmla="*/ 119880 w 685800"/>
              <a:gd name="textAreaRight" fmla="*/ 497160 w 685800"/>
              <a:gd name="textAreaTop" fmla="*/ 20160 h 152640"/>
              <a:gd name="textAreaBottom" fmla="*/ 132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364400" y="3505320"/>
            <a:ext cx="1233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ess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let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219320" y="47242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1905120" y="4343400"/>
            <a:ext cx="4572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905120" y="47242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153880" y="4343400"/>
            <a:ext cx="153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uplic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en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200400" y="41911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200400" y="54100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562720" y="41911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5577840" y="5013720"/>
            <a:ext cx="1182600" cy="297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577840" y="5507280"/>
            <a:ext cx="1182600" cy="29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748680" y="450216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versific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779240" y="3962520"/>
            <a:ext cx="35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572000" y="4114800"/>
            <a:ext cx="0" cy="228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086600" y="4114800"/>
            <a:ext cx="0" cy="228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8199360" y="3962520"/>
            <a:ext cx="14018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rigi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199360" y="4761000"/>
            <a:ext cx="14018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rrel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783920" y="4800600"/>
            <a:ext cx="50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702560" y="5640480"/>
            <a:ext cx="5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229600" y="5562720"/>
            <a:ext cx="14018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ssu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502440" y="3733920"/>
            <a:ext cx="7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265920" y="4876920"/>
            <a:ext cx="87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ap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919120" y="478008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995440" y="523728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81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403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19560" y="685440"/>
            <a:ext cx="3220920" cy="6094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Pseudogeni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57200" y="1828800"/>
            <a:ext cx="883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seudogeni non processati sono presenti nel gen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 regioni non sinteniche con la copia codific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57200" y="3505320"/>
            <a:ext cx="8832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aratteristica di questi pseudogeni e’ di essere cop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roncate del gene. La loro localizzazione e’ prevalentamente pericentromerica e la loro presenza in queste viene ascritta alla plasticita’ pericentromerica che costituisce un aspetto particolare della piu’ generale plasticita’ insita nel genoma uma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81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228600" y="1143000"/>
            <a:ext cx="939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seudogeni processati : sono copie non funzionali degli esoni di un gene espresso e si ritrovano nelle famiglie dei geni interspersi. La loro origine sembrerebbe dovuta all’integrazione di una sequenza di DNA originatesi per azione di una trascrittasi inver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68280" y="3581280"/>
            <a:ext cx="855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 sono copie di trascritti dalla RNApolimerasi II di solito non sono espres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erche’ privi del promotore. Possono venir espressi se integrati vicino ad 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motore, in questo caso l’espressione potrebbe non essere nello spazio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l tempo quella originaria (espressione selettiva in un tessuto specifico e/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 uno specifico momento nello sviluppo: geni espressi nel testicolo, S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34520" y="5715000"/>
            <a:ext cx="905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 sono copie di trascritti dalla RNApolimerasi III possono avere al loro inte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l promotore ed essere espressi. Possono raggiungere un elevato numero di cop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sequenze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Alu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 LINE-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9067680" y="6781680"/>
            <a:ext cx="609840" cy="304920"/>
          </a:xfrm>
          <a:custGeom>
            <a:avLst/>
            <a:gdLst>
              <a:gd name="textAreaLeft" fmla="*/ 95040 w 609840"/>
              <a:gd name="textAreaRight" fmla="*/ 533880 w 60984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416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5880" y="685440"/>
            <a:ext cx="3221280" cy="4064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Pseudogeni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81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 flipV="1">
            <a:off x="6553080" y="3276720"/>
            <a:ext cx="0" cy="30456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010280" y="2057400"/>
            <a:ext cx="2667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Genoma mitocondria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6.6 - 37 gen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2" name=""/>
          <p:cNvSpPr/>
          <p:nvPr/>
        </p:nvSpPr>
        <p:spPr>
          <a:xfrm>
            <a:off x="8153280" y="2895480"/>
            <a:ext cx="0" cy="38124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327800" y="3200400"/>
            <a:ext cx="1130400" cy="5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ue geni per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r RNA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8686800" y="3200400"/>
            <a:ext cx="1066680" cy="5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22 geni per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RNA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994360" y="3213000"/>
            <a:ext cx="1092240" cy="5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3 geni per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olipeptidi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7848720" y="3276720"/>
            <a:ext cx="0" cy="30456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25480" y="1447920"/>
            <a:ext cx="19684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Genoma nucleare</a:t>
            </a:r>
            <a:endParaRPr b="0" lang="en-US" sz="20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3000 Mb</a:t>
            </a:r>
            <a:endParaRPr b="0" lang="en-US" sz="20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~ 50.000 geni</a:t>
            </a:r>
            <a:endParaRPr b="0" lang="en-US" sz="20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80880" y="3352680"/>
            <a:ext cx="1486080" cy="77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geni e sequenze</a:t>
            </a:r>
            <a:endParaRPr b="0" lang="en-US" sz="16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orrelati ai geni</a:t>
            </a:r>
            <a:endParaRPr b="0" lang="en-US" sz="16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882880" y="3335400"/>
            <a:ext cx="1079640" cy="77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NA </a:t>
            </a:r>
            <a:endParaRPr b="0" lang="en-US" sz="16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xtragenico</a:t>
            </a:r>
            <a:endParaRPr b="0" lang="en-US" sz="16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0" name=""/>
          <p:cNvSpPr/>
          <p:nvPr/>
        </p:nvSpPr>
        <p:spPr>
          <a:xfrm>
            <a:off x="1663560" y="2514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0180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340080" y="2971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01800" y="29718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7520" y="26733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~3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640600" y="264960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~7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52280" y="5316480"/>
            <a:ext cx="1041480" cy="77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NA</a:t>
            </a:r>
            <a:endParaRPr b="0" lang="en-US" sz="16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odificante</a:t>
            </a:r>
            <a:endParaRPr b="0" lang="en-US" sz="16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828800" y="5316480"/>
            <a:ext cx="1371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NA</a:t>
            </a:r>
            <a:endParaRPr b="0" lang="en-US" sz="16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n codificante</a:t>
            </a:r>
            <a:endParaRPr b="0" lang="en-US" sz="16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8" name=""/>
          <p:cNvSpPr/>
          <p:nvPr/>
        </p:nvSpPr>
        <p:spPr>
          <a:xfrm>
            <a:off x="990720" y="411480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4495680"/>
            <a:ext cx="2133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14600" y="44956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44956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0040" y="41734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~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08600" y="41590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~9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4880" y="4495680"/>
            <a:ext cx="230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iche o moderatam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ipe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838080" y="6400800"/>
            <a:ext cx="10670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seudogeni</a:t>
            </a:r>
            <a:endParaRPr b="0" lang="en-US" sz="14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438280" y="6426360"/>
            <a:ext cx="12956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frammenti </a:t>
            </a:r>
            <a:endParaRPr b="0" lang="en-US" sz="16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genici</a:t>
            </a:r>
            <a:endParaRPr b="0" lang="en-US" sz="16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038480" y="6400800"/>
            <a:ext cx="1447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introni, </a:t>
            </a:r>
            <a:endParaRPr b="0" lang="en-US" sz="16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quenze non </a:t>
            </a:r>
            <a:endParaRPr b="0" lang="en-US" sz="16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radotte ecc..</a:t>
            </a:r>
            <a:endParaRPr b="0" lang="en-US" sz="16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66680" y="6019920"/>
            <a:ext cx="53352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6019920"/>
            <a:ext cx="68580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743200" y="6095880"/>
            <a:ext cx="0" cy="22860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486400" y="50292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uniche o con basso</a:t>
            </a:r>
            <a:endParaRPr b="0" lang="en-US" sz="16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umero di copie</a:t>
            </a:r>
            <a:endParaRPr b="0" lang="en-US" sz="16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7772400" y="50292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a mediamente ad</a:t>
            </a:r>
            <a:endParaRPr b="0" lang="en-US" sz="16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ltamente ripetute</a:t>
            </a:r>
            <a:endParaRPr b="0" lang="en-US" sz="16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934320" y="6553080"/>
            <a:ext cx="1295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in tandem</a:t>
            </a:r>
            <a:endParaRPr b="0" lang="en-US" sz="16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 raggruppate</a:t>
            </a:r>
            <a:endParaRPr b="0" lang="en-US" sz="16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8458200" y="655308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intersperse</a:t>
            </a:r>
            <a:endParaRPr b="0" lang="en-US" sz="16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5" name=""/>
          <p:cNvSpPr/>
          <p:nvPr/>
        </p:nvSpPr>
        <p:spPr>
          <a:xfrm>
            <a:off x="8839080" y="5791320"/>
            <a:ext cx="4572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7648200" y="5791320"/>
            <a:ext cx="35244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657600" y="4114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4648320"/>
            <a:ext cx="5105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172200" y="4648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763120" y="4648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77160" y="43131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~8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98320" y="434340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~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94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7784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3525840" cy="4827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Genoma Um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638680" y="1676520"/>
            <a:ext cx="416088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81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182160" y="1066680"/>
            <a:ext cx="9315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seudogeni processati : sono copie non funzionali degli esoni di un gene espressoe si ritrova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lle famiglie dei geni interspersi. La loro origine sembrerebbe dovuta all’integrazione di un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quenza di DNA originatesi per azione di una trascrittasi invers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57200" y="289548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295280" y="2819520"/>
            <a:ext cx="304920" cy="1522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905120" y="2819520"/>
            <a:ext cx="304560" cy="1522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514600" y="2819520"/>
            <a:ext cx="304920" cy="1522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600200" y="2819520"/>
            <a:ext cx="304920" cy="1522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990720" y="2819520"/>
            <a:ext cx="304560" cy="1522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209680" y="2819520"/>
            <a:ext cx="304920" cy="1522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09480" y="2743200"/>
            <a:ext cx="228600" cy="3049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rot="5400000">
            <a:off x="1294920" y="327672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447920" y="4038480"/>
            <a:ext cx="304560" cy="15264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143000" y="4038480"/>
            <a:ext cx="304920" cy="15264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752480" y="4038480"/>
            <a:ext cx="304920" cy="15264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031760" y="2514600"/>
            <a:ext cx="150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1      E2      E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62120" y="3753000"/>
            <a:ext cx="162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1 E2 E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686600" y="3111480"/>
            <a:ext cx="21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rascrizion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maturazione dell’R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044800" y="3927600"/>
            <a:ext cx="1948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AAA…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3’  mR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rot="5400000">
            <a:off x="1294920" y="449568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742760" y="4330800"/>
            <a:ext cx="1195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rascritta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nver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23080" y="3949560"/>
            <a:ext cx="3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5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19840" y="5168880"/>
            <a:ext cx="3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447920" y="5283360"/>
            <a:ext cx="304560" cy="1522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143000" y="5283360"/>
            <a:ext cx="304920" cy="1522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752480" y="5283360"/>
            <a:ext cx="304920" cy="1522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4997520"/>
            <a:ext cx="162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1 E2 E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172240" y="5181480"/>
            <a:ext cx="1781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TTT…T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5  ’cD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134040" y="2743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967080" y="2502000"/>
            <a:ext cx="888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AAAN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848720" y="2743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172200" y="3178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031880" y="2936880"/>
            <a:ext cx="808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TTTN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886880" y="3165480"/>
            <a:ext cx="95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818680" y="2577960"/>
            <a:ext cx="3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5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8920800" y="2971800"/>
            <a:ext cx="3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5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904960" y="2502000"/>
            <a:ext cx="3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872680" y="2971800"/>
            <a:ext cx="3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629400" y="2463840"/>
            <a:ext cx="380880" cy="22860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rot="11234400">
            <a:off x="7848720" y="3199680"/>
            <a:ext cx="380880" cy="22860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rot="5400000">
            <a:off x="7162200" y="3504960"/>
            <a:ext cx="533520" cy="228600"/>
          </a:xfrm>
          <a:custGeom>
            <a:avLst/>
            <a:gdLst>
              <a:gd name="textAreaLeft" fmla="*/ 83160 w 533520"/>
              <a:gd name="textAreaRight" fmla="*/ 466920 w 5335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181480" y="407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8267040" y="3809880"/>
            <a:ext cx="9885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AAA..N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9220320" y="4038480"/>
            <a:ext cx="18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181480" y="451476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905080" y="4273560"/>
            <a:ext cx="808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TTTN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991720" y="4495680"/>
            <a:ext cx="419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866480" y="3914640"/>
            <a:ext cx="3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5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454320" y="3809880"/>
            <a:ext cx="3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882320" y="4308480"/>
            <a:ext cx="3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9435240" y="4343400"/>
            <a:ext cx="3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5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010280" y="4368960"/>
            <a:ext cx="304920" cy="1522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705720" y="4368960"/>
            <a:ext cx="304560" cy="1522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315200" y="4368960"/>
            <a:ext cx="304920" cy="1522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678440" y="426708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TTT.. TTTT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025120" y="3276720"/>
            <a:ext cx="182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ntegrazione 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NA cromosom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5121360" y="5410080"/>
            <a:ext cx="63792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240400" y="5175360"/>
            <a:ext cx="888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AAAN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9144000" y="5416560"/>
            <a:ext cx="44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105520" y="585144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828760" y="5610240"/>
            <a:ext cx="808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TTTN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9067680" y="5838840"/>
            <a:ext cx="47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806000" y="5251320"/>
            <a:ext cx="3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5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9561960" y="5175360"/>
            <a:ext cx="31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806000" y="5645160"/>
            <a:ext cx="3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9542880" y="5680080"/>
            <a:ext cx="31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934320" y="5705640"/>
            <a:ext cx="304560" cy="1522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629400" y="5705640"/>
            <a:ext cx="304920" cy="1522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238880" y="5705640"/>
            <a:ext cx="304920" cy="1522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596360" y="5603760"/>
            <a:ext cx="1377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TTTT  TTTTT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770080" y="5184720"/>
            <a:ext cx="888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AAAN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978600" y="5292720"/>
            <a:ext cx="304920" cy="1522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673680" y="5292720"/>
            <a:ext cx="304920" cy="1522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283520" y="5292720"/>
            <a:ext cx="304560" cy="1522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511400" y="5181480"/>
            <a:ext cx="79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AAA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rot="5400000">
            <a:off x="6476400" y="4724280"/>
            <a:ext cx="533520" cy="228600"/>
          </a:xfrm>
          <a:custGeom>
            <a:avLst/>
            <a:gdLst>
              <a:gd name="textAreaLeft" fmla="*/ 83160 w 533520"/>
              <a:gd name="textAreaRight" fmla="*/ 466920 w 5335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753240" y="4594320"/>
            <a:ext cx="306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intesi del second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ilamento e riparazione del D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53341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4572000" y="2209320"/>
            <a:ext cx="0" cy="3124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572000" y="2209680"/>
            <a:ext cx="2209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748200" y="2216160"/>
            <a:ext cx="448200" cy="368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87520" y="24703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791320" y="5181480"/>
            <a:ext cx="83808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543800" y="518148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9067680" y="6781680"/>
            <a:ext cx="609840" cy="304920"/>
          </a:xfrm>
          <a:custGeom>
            <a:avLst/>
            <a:gdLst>
              <a:gd name="textAreaLeft" fmla="*/ 95040 w 609840"/>
              <a:gd name="textAreaRight" fmla="*/ 533880 w 60984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506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477120" y="533160"/>
            <a:ext cx="3200400" cy="533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Pseudogeni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81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76320" y="1222200"/>
            <a:ext cx="969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Geni troncati e frammenti genici: sequenze simili ad una piccola parte di un gene{frammento in 3’ o in 5’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 geni troncati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} o ad una regione molto piccola, anche u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ingolo esone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(frammento genico)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. Si ritrovano nelle famiglie a geni raggruppati e s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ormerebbero per crossing over ineguale o SCE inegual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62120" y="3352680"/>
            <a:ext cx="380880" cy="304920"/>
          </a:xfrm>
          <a:prstGeom prst="cube">
            <a:avLst>
              <a:gd name="adj" fmla="val 25000"/>
            </a:avLst>
          </a:prstGeom>
          <a:solidFill>
            <a:srgbClr val="11fd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066680" y="3352680"/>
            <a:ext cx="381240" cy="304920"/>
          </a:xfrm>
          <a:prstGeom prst="cube">
            <a:avLst>
              <a:gd name="adj" fmla="val 25000"/>
            </a:avLst>
          </a:prstGeom>
          <a:solidFill>
            <a:srgbClr val="11fd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371600" y="3352680"/>
            <a:ext cx="380880" cy="304920"/>
          </a:xfrm>
          <a:prstGeom prst="cube">
            <a:avLst>
              <a:gd name="adj" fmla="val 25000"/>
            </a:avLst>
          </a:prstGeom>
          <a:solidFill>
            <a:srgbClr val="11fd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676520" y="3352680"/>
            <a:ext cx="380880" cy="304920"/>
          </a:xfrm>
          <a:prstGeom prst="cube">
            <a:avLst>
              <a:gd name="adj" fmla="val 25000"/>
            </a:avLst>
          </a:prstGeom>
          <a:solidFill>
            <a:srgbClr val="11fd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981080" y="3352680"/>
            <a:ext cx="381240" cy="304920"/>
          </a:xfrm>
          <a:prstGeom prst="cube">
            <a:avLst>
              <a:gd name="adj" fmla="val 25000"/>
            </a:avLst>
          </a:prstGeom>
          <a:solidFill>
            <a:srgbClr val="11fd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286000" y="3352680"/>
            <a:ext cx="380880" cy="304920"/>
          </a:xfrm>
          <a:prstGeom prst="cube">
            <a:avLst>
              <a:gd name="adj" fmla="val 25000"/>
            </a:avLst>
          </a:prstGeom>
          <a:solidFill>
            <a:srgbClr val="11fd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2743200" y="3428640"/>
            <a:ext cx="15228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895480" y="3429000"/>
            <a:ext cx="15264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3048120" y="3428640"/>
            <a:ext cx="15228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200400" y="3429000"/>
            <a:ext cx="15228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3352680" y="3428640"/>
            <a:ext cx="15264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505320" y="3429000"/>
            <a:ext cx="15228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3657600" y="3428640"/>
            <a:ext cx="15228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809880" y="3429000"/>
            <a:ext cx="15264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870120" y="3089160"/>
            <a:ext cx="296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 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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M CIT     3’ U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944760" y="2895480"/>
            <a:ext cx="2890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: Sequenza leade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: Domini extracellula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M: sequenza transmembra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IT: Coda citoplasmatic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984920" y="3187800"/>
            <a:ext cx="170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GENI HLA Classe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9160" y="3340080"/>
            <a:ext cx="74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mR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28600" y="4419720"/>
            <a:ext cx="86868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456920" y="3997440"/>
            <a:ext cx="328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~2.2 Mb in 6p21 . 3  circa 20 ge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09480" y="4876920"/>
            <a:ext cx="457200" cy="22860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295280" y="4876920"/>
            <a:ext cx="457200" cy="22860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057400" y="4876920"/>
            <a:ext cx="457200" cy="22860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257800" y="4876920"/>
            <a:ext cx="457200" cy="22860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772400" y="4876920"/>
            <a:ext cx="457200" cy="22860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9220320" y="4876920"/>
            <a:ext cx="457200" cy="22860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114800" y="4876920"/>
            <a:ext cx="457200" cy="22860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429000" y="4876920"/>
            <a:ext cx="457200" cy="22860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238880" y="4876920"/>
            <a:ext cx="457200" cy="22860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248520" y="4876920"/>
            <a:ext cx="457200" cy="22860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048120" y="4952880"/>
            <a:ext cx="228600" cy="15264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800600" y="4952880"/>
            <a:ext cx="228600" cy="15264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867280" y="4952880"/>
            <a:ext cx="228600" cy="15264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858000" y="4952880"/>
            <a:ext cx="228600" cy="15264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8458200" y="4952880"/>
            <a:ext cx="228600" cy="15264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8839080" y="4952880"/>
            <a:ext cx="228600" cy="15264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52280" y="4952880"/>
            <a:ext cx="228600" cy="15264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0" y="5130720"/>
            <a:ext cx="9875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0948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29528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057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2578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772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922032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175040" y="4425840"/>
            <a:ext cx="79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         C           E                                                   A                                       G                      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123360" y="4616280"/>
            <a:ext cx="17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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814000" y="4635360"/>
            <a:ext cx="23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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685800" y="5562360"/>
            <a:ext cx="914400" cy="152640"/>
            <a:chOff x="685800" y="5562360"/>
            <a:chExt cx="914400" cy="152640"/>
          </a:xfrm>
        </p:grpSpPr>
        <p:sp>
          <p:nvSpPr>
            <p:cNvPr id="561" name=""/>
            <p:cNvSpPr/>
            <p:nvPr/>
          </p:nvSpPr>
          <p:spPr>
            <a:xfrm flipV="1">
              <a:off x="685800" y="556236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838080" y="556272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990360" y="5562360"/>
              <a:ext cx="15264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1295280" y="556236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447560" y="5562720"/>
              <a:ext cx="15264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143000" y="556272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728280" y="5299200"/>
            <a:ext cx="70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’ U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28600" y="5181480"/>
            <a:ext cx="15228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124080" y="5181480"/>
            <a:ext cx="0" cy="3812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977560" y="5562720"/>
            <a:ext cx="3834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2590920" y="5715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3352320" y="57150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3733560" y="5176800"/>
            <a:ext cx="1143000" cy="1071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120840" y="631188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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857680" y="6324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00400" y="6324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581280" y="6324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4025880" y="6400440"/>
            <a:ext cx="914400" cy="152640"/>
            <a:chOff x="4025880" y="6400440"/>
            <a:chExt cx="914400" cy="152640"/>
          </a:xfrm>
        </p:grpSpPr>
        <p:sp>
          <p:nvSpPr>
            <p:cNvPr id="579" name=""/>
            <p:cNvSpPr/>
            <p:nvPr/>
          </p:nvSpPr>
          <p:spPr>
            <a:xfrm flipV="1">
              <a:off x="4025880" y="640044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178160" y="640080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4330440" y="6400440"/>
              <a:ext cx="15264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4635360" y="640044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787640" y="6400800"/>
              <a:ext cx="15264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483080" y="640080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4081320" y="6137280"/>
            <a:ext cx="70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’ U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943600" y="51055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720760" y="5486400"/>
            <a:ext cx="3834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5334120" y="56386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095520" y="563868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332040" y="6346800"/>
            <a:ext cx="27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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162840" y="6359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629400" y="6359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7013520" y="6435360"/>
            <a:ext cx="914400" cy="152640"/>
            <a:chOff x="7013520" y="6435360"/>
            <a:chExt cx="914400" cy="152640"/>
          </a:xfrm>
        </p:grpSpPr>
        <p:sp>
          <p:nvSpPr>
            <p:cNvPr id="594" name=""/>
            <p:cNvSpPr/>
            <p:nvPr/>
          </p:nvSpPr>
          <p:spPr>
            <a:xfrm flipV="1">
              <a:off x="7013520" y="643536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165800" y="643572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7318080" y="6435360"/>
              <a:ext cx="15264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7623000" y="643536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775280" y="6435720"/>
              <a:ext cx="15264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470720" y="643572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0" name=""/>
          <p:cNvSpPr/>
          <p:nvPr/>
        </p:nvSpPr>
        <p:spPr>
          <a:xfrm>
            <a:off x="7068960" y="6172200"/>
            <a:ext cx="70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’ U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5866920" y="5105520"/>
            <a:ext cx="114300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366680" y="57150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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064280" y="5727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7467480" y="5727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848720" y="5727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8232840" y="5803560"/>
            <a:ext cx="914400" cy="152640"/>
            <a:chOff x="8232840" y="5803560"/>
            <a:chExt cx="914400" cy="152640"/>
          </a:xfrm>
        </p:grpSpPr>
        <p:sp>
          <p:nvSpPr>
            <p:cNvPr id="607" name=""/>
            <p:cNvSpPr/>
            <p:nvPr/>
          </p:nvSpPr>
          <p:spPr>
            <a:xfrm flipV="1">
              <a:off x="8232840" y="580356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385120" y="580392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V="1">
              <a:off x="8537400" y="5803560"/>
              <a:ext cx="15264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8842320" y="580356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8994600" y="5803920"/>
              <a:ext cx="15264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690040" y="580392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8287920" y="5540400"/>
            <a:ext cx="70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’ U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7086600" y="5105520"/>
            <a:ext cx="144792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8991720" y="5105520"/>
            <a:ext cx="45720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8758440" y="6324480"/>
            <a:ext cx="644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   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8839080" y="63374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9220320" y="63374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9601200" y="6477120"/>
            <a:ext cx="27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621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2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163800" y="5473800"/>
            <a:ext cx="468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324480" y="609120"/>
            <a:ext cx="3068640" cy="4827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Pseudogeni I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81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8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629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0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741240" y="660240"/>
            <a:ext cx="8250480" cy="30736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Famiglie multigenich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81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76320" y="1219320"/>
            <a:ext cx="9723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mic Sans MS"/>
              </a:rPr>
              <a:t>Le famiglie presentano variabilita’ nella omologia con la sequenza di riferimento e nel grado con cui le sequenze conservate definiscono la famiglia. Ne deriva che l’appartenenza ad una famiglia e’ data non solo dall’omologia complessiva, ma dal presentare un dominio condiviso o organizzazione sim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97280" y="3041640"/>
            <a:ext cx="9519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amiglia della DEAD box: geni per enzimi coinvolti nella maturazione dell’ RNA come inizio del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raduzione e splicing . Vi sono 8 motivi aminoacidici conservati compresa la DEADbox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sp-Glu-Ala-As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19240" y="4172040"/>
            <a:ext cx="522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H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081800" y="4172040"/>
            <a:ext cx="89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XXGK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293200" y="418464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T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453480" y="4184640"/>
            <a:ext cx="43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G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397760" y="4184640"/>
            <a:ext cx="64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PG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343480" y="4184640"/>
            <a:ext cx="66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327360" y="4184640"/>
            <a:ext cx="50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123320" y="4184640"/>
            <a:ext cx="80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RGX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8195400" y="4184640"/>
            <a:ext cx="75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HRIG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9092520" y="418464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OO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09480" y="433692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066680" y="4184640"/>
            <a:ext cx="83844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260440" y="4184640"/>
            <a:ext cx="83844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462480" y="4184640"/>
            <a:ext cx="38088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402080" y="4184640"/>
            <a:ext cx="60948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334120" y="4184640"/>
            <a:ext cx="609480" cy="304920"/>
          </a:xfrm>
          <a:prstGeom prst="rect">
            <a:avLst/>
          </a:prstGeom>
          <a:noFill/>
          <a:ln w="28440">
            <a:solidFill>
              <a:srgbClr val="fe2c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288120" y="4184640"/>
            <a:ext cx="5335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7164360" y="4184640"/>
            <a:ext cx="73656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8178840" y="4184640"/>
            <a:ext cx="73656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905120" y="43369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124080" y="43369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886200" y="4336920"/>
            <a:ext cx="495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016600" y="4336920"/>
            <a:ext cx="317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943600" y="4336920"/>
            <a:ext cx="317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832440" y="4336920"/>
            <a:ext cx="317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7912080" y="4336920"/>
            <a:ext cx="241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902800" y="4336920"/>
            <a:ext cx="241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12480" y="4718160"/>
            <a:ext cx="94892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amiglia dell’unita’ ripetuta WD: geni che codificano per prodotti con funzioni diverse, 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utti coinvolti nella regolazione cellulare(divisione,trascrizione …..). I prodotti presentano da 4 a 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nita’ ripetute in tandem, contenenti un “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core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” di lunghezza fissa (27-45AA) che termina 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l dipeptide WD:Trp-Asp. Il WD e’ preceduta da un’unita’ la cui lunghezza puo’ variare nelle diver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ipetizi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596680" y="3944880"/>
            <a:ext cx="491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2-42            19-29     17-29         17-23       19-51      115-192      20-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797200" y="647064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909960" y="6267600"/>
            <a:ext cx="447480" cy="307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346640" y="647064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433120" y="6267600"/>
            <a:ext cx="485640" cy="307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W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771640" y="6013440"/>
            <a:ext cx="3276720" cy="76212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187680" y="6261120"/>
            <a:ext cx="68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=4-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083760" y="6180120"/>
            <a:ext cx="48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6-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636440" y="6165720"/>
            <a:ext cx="57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3-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rot="16173600">
            <a:off x="4800240" y="6089040"/>
            <a:ext cx="227160" cy="1446120"/>
          </a:xfrm>
          <a:custGeom>
            <a:avLst/>
            <a:gdLst>
              <a:gd name="textAreaLeft" fmla="*/ 145080 w 227160"/>
              <a:gd name="textAreaRight" fmla="*/ 227520 w 227160"/>
              <a:gd name="textAreaTop" fmla="*/ 37440 h 1446120"/>
              <a:gd name="textAreaBottom" fmla="*/ 1408680 h 144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645080" y="6927840"/>
            <a:ext cx="62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677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8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952520" y="609480"/>
            <a:ext cx="4211640" cy="635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amiglie multigeni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81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380880" y="2293920"/>
            <a:ext cx="9266400" cy="4821120"/>
          </a:xfrm>
          <a:prstGeom prst="rect">
            <a:avLst/>
          </a:prstGeom>
          <a:ln w="0">
            <a:noFill/>
          </a:ln>
        </p:spPr>
      </p:pic>
      <p:grpSp>
        <p:nvGrpSpPr>
          <p:cNvPr id="684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685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6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457200" y="2286000"/>
            <a:ext cx="9144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04920" y="1371600"/>
            <a:ext cx="921996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e famiglie presentano variabilita’ nella omologia con la sequenza di riferi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 nel grado con cui le sequenze conservate definiscono la famiglia.  Ne deriva 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’appartenenza ad una famiglia e’ data non solo dall’omologia complessiva , ma 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esentare un dominio condiviso o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rganizzazione sim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495680" y="838080"/>
            <a:ext cx="4135680" cy="457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amiglie multigeni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81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898560" y="1598760"/>
            <a:ext cx="1839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4" name="" descr=""/>
          <p:cNvPicPr/>
          <p:nvPr/>
        </p:nvPicPr>
        <p:blipFill>
          <a:blip r:embed="rId1"/>
          <a:stretch/>
        </p:blipFill>
        <p:spPr>
          <a:xfrm>
            <a:off x="182520" y="1736640"/>
            <a:ext cx="9495000" cy="2987640"/>
          </a:xfrm>
          <a:prstGeom prst="rect">
            <a:avLst/>
          </a:prstGeom>
          <a:ln w="0">
            <a:noFill/>
          </a:ln>
        </p:spPr>
      </p:pic>
      <p:sp>
        <p:nvSpPr>
          <p:cNvPr id="695" name=""/>
          <p:cNvSpPr/>
          <p:nvPr/>
        </p:nvSpPr>
        <p:spPr>
          <a:xfrm>
            <a:off x="152280" y="5029200"/>
            <a:ext cx="94903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 membri presentano un elevato grado di omologia per quasi tutta la loro sequenza codifican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’origine evolutiva e’ chiara come pure la correlazione della funzione. La genesi da poche  sequen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ncestrali di alcune famiglie geniche di questo tipo, che spesso si presentano sintenich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’ dovuta alla </a:t>
            </a: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evoluzione concertata (concerted evolution).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Quando si presentano raggruppati 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ro espressione puo’ essere coordinata da un unica regione di controllo LC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9067680" y="6781680"/>
            <a:ext cx="609840" cy="304920"/>
          </a:xfrm>
          <a:custGeom>
            <a:avLst/>
            <a:gdLst>
              <a:gd name="textAreaLeft" fmla="*/ 95040 w 609840"/>
              <a:gd name="textAreaRight" fmla="*/ 533880 w 60984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698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9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505320" y="761760"/>
            <a:ext cx="5202000" cy="7110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amiglie geniche classic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81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84600" y="1447920"/>
            <a:ext cx="97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regolazione avviene nel tempo seguendo l’ordine lineare dei locus lungo il cromoso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93640" y="1905120"/>
            <a:ext cx="909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l caso dei geni  globinici l’espressione e’ modulata nel corso dello svilup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ducendo forme di emoglobina differenti nei diversi stadi, la differenza e’ legataalla diversa affinita’ per l’ossigeno necessaria nei diversi periodi di sviluppo. Si instaura percio’ l’alternanza delle emoglob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6" name="" descr=""/>
          <p:cNvPicPr/>
          <p:nvPr/>
        </p:nvPicPr>
        <p:blipFill>
          <a:blip r:embed="rId1"/>
          <a:stretch/>
        </p:blipFill>
        <p:spPr>
          <a:xfrm>
            <a:off x="1828800" y="3370320"/>
            <a:ext cx="5791320" cy="3924360"/>
          </a:xfrm>
          <a:prstGeom prst="rect">
            <a:avLst/>
          </a:prstGeom>
          <a:ln w="0">
            <a:noFill/>
          </a:ln>
        </p:spPr>
      </p:pic>
      <p:sp>
        <p:nvSpPr>
          <p:cNvPr id="707" name=""/>
          <p:cNvSpPr/>
          <p:nvPr/>
        </p:nvSpPr>
        <p:spPr>
          <a:xfrm>
            <a:off x="9067680" y="6781680"/>
            <a:ext cx="609840" cy="304920"/>
          </a:xfrm>
          <a:custGeom>
            <a:avLst/>
            <a:gdLst>
              <a:gd name="textAreaLeft" fmla="*/ 95040 w 609840"/>
              <a:gd name="textAreaRight" fmla="*/ 533880 w 60984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709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740880" y="659880"/>
            <a:ext cx="8393400" cy="8636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amiglie geniche classiche: regol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81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6111720" y="60404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876920" y="47242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9480" y="1752480"/>
            <a:ext cx="9197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 LCR si trovano a monte dei raggruppamenti e la loro funzione sarebbe quella 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rganizzare il raggruppamento in un dominio di cromatina attiva, agendo come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enhanc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90000" y="2743200"/>
            <a:ext cx="963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cromatina attiva si presenta sensibile alla Dnasi I e grazie a questa caratteris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no state identificate le LCR per i due aggruppameni globinici. E’ stato anche possibi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iconoscere che questa ipersensibilita’ e’ modulata nei diversi stadi di svilup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9067680" y="6781680"/>
            <a:ext cx="609840" cy="304920"/>
          </a:xfrm>
          <a:custGeom>
            <a:avLst/>
            <a:gdLst>
              <a:gd name="textAreaLeft" fmla="*/ 95040 w 609840"/>
              <a:gd name="textAreaRight" fmla="*/ 533880 w 60984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743200" y="4572000"/>
            <a:ext cx="533520" cy="3808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523880" y="4419720"/>
            <a:ext cx="381240" cy="6094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257800" y="4572000"/>
            <a:ext cx="533520" cy="3808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924680" y="4572000"/>
            <a:ext cx="533520" cy="3808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7162920" y="4572000"/>
            <a:ext cx="533160" cy="3808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763120" y="4572000"/>
            <a:ext cx="533160" cy="380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019920" y="4572000"/>
            <a:ext cx="533160" cy="3808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343400" y="4572000"/>
            <a:ext cx="533520" cy="3808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143000" y="4724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905120" y="4724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276720" y="4724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769608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8458200" y="4724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-8640" y="44974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lob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576440" y="4154400"/>
            <a:ext cx="1360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S-40    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328280" y="4083120"/>
            <a:ext cx="513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272920" y="4076640"/>
            <a:ext cx="532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022440" y="4098960"/>
            <a:ext cx="532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7238880" y="449568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8077320" y="44956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8915400" y="44956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172640" y="4114800"/>
            <a:ext cx="424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8010720" y="4127400"/>
            <a:ext cx="424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8840520" y="4167360"/>
            <a:ext cx="31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352680" y="5869080"/>
            <a:ext cx="533520" cy="3808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828800" y="5716440"/>
            <a:ext cx="380880" cy="6098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578560" y="5888160"/>
            <a:ext cx="533160" cy="3808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8686800" y="5867280"/>
            <a:ext cx="533520" cy="38124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7467480" y="5867280"/>
            <a:ext cx="533520" cy="38124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340320" y="5888160"/>
            <a:ext cx="533520" cy="3808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664160" y="5888160"/>
            <a:ext cx="533160" cy="3808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066680" y="602136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209680" y="602136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902040" y="604044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8001000" y="6019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362320" y="5716440"/>
            <a:ext cx="380880" cy="6098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295280" y="5716440"/>
            <a:ext cx="381240" cy="6098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197320" y="604044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9220320" y="6019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190520" y="5327640"/>
            <a:ext cx="168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S-4  HS-3 HS-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429000" y="54878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429000" y="579276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724280" y="586728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638680" y="581184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477120" y="581184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7543800" y="57913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8763120" y="57913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620240" y="542124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565960" y="5430960"/>
            <a:ext cx="442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402600" y="550692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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544880" y="5486400"/>
            <a:ext cx="30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8688240" y="5473800"/>
            <a:ext cx="3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-6120" y="575928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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lob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3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774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5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Controllo dei cluster globini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81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5964120" y="4184640"/>
            <a:ext cx="1067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210360" y="650088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210360" y="535788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5499000" y="5346720"/>
            <a:ext cx="297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00320" y="1523880"/>
            <a:ext cx="8279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li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enhancer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sono brevi sequenze che agiscono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in cis.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l caso dei geni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lobinic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ono costituiti da sequenze di riconoscimento per fattori di trascrizione eritroido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specifici. Si ritiene che l’alternanza delle emoglobine sia legata oltre che a fenomen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i competizione dei geni per interagire con le LCR , anche all’interv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i silenziatori gene-specifici, modulati durante lo svilupp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817800" y="4086360"/>
            <a:ext cx="416160" cy="1936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549760" y="4095720"/>
            <a:ext cx="414360" cy="1936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967520" y="4095720"/>
            <a:ext cx="414360" cy="1936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018200" y="4095720"/>
            <a:ext cx="416160" cy="1936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141960" y="4095720"/>
            <a:ext cx="414360" cy="1936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838760" y="4095720"/>
            <a:ext cx="414360" cy="1936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2286000" y="4164120"/>
            <a:ext cx="347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2743200" y="4164120"/>
            <a:ext cx="107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245120" y="4173480"/>
            <a:ext cx="59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7434360" y="417348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5" name=""/>
          <p:cNvGrpSpPr/>
          <p:nvPr/>
        </p:nvGrpSpPr>
        <p:grpSpPr>
          <a:xfrm>
            <a:off x="2598840" y="3962520"/>
            <a:ext cx="525240" cy="334440"/>
            <a:chOff x="2598840" y="3962520"/>
            <a:chExt cx="525240" cy="334440"/>
          </a:xfrm>
        </p:grpSpPr>
        <p:sp>
          <p:nvSpPr>
            <p:cNvPr id="796" name=""/>
            <p:cNvSpPr/>
            <p:nvPr/>
          </p:nvSpPr>
          <p:spPr>
            <a:xfrm>
              <a:off x="2792520" y="3962520"/>
              <a:ext cx="137520" cy="31536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985840" y="3975120"/>
              <a:ext cx="138240" cy="31536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598840" y="3981240"/>
              <a:ext cx="138240" cy="31572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9" name=""/>
          <p:cNvSpPr/>
          <p:nvPr/>
        </p:nvSpPr>
        <p:spPr>
          <a:xfrm>
            <a:off x="5253120" y="4173480"/>
            <a:ext cx="296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8381880" y="417348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4884840" y="4419720"/>
            <a:ext cx="296640" cy="0"/>
          </a:xfrm>
          <a:prstGeom prst="line">
            <a:avLst/>
          </a:prstGeom>
          <a:ln cap="rnd" w="9360">
            <a:solidFill>
              <a:srgbClr val="ffff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878280" y="3733920"/>
            <a:ext cx="4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886200" y="41911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4777920" y="3703680"/>
            <a:ext cx="48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528520" y="370836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6191280" y="374652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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7079760" y="3746520"/>
            <a:ext cx="30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967520" y="3740040"/>
            <a:ext cx="3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4064040" y="6402240"/>
            <a:ext cx="415800" cy="1936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796000" y="6411960"/>
            <a:ext cx="414360" cy="1936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8213760" y="6411960"/>
            <a:ext cx="414360" cy="1936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7264440" y="6411960"/>
            <a:ext cx="415800" cy="1936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388200" y="6411960"/>
            <a:ext cx="414360" cy="1936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5084640" y="6411960"/>
            <a:ext cx="414360" cy="1936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286000" y="6480000"/>
            <a:ext cx="59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491000" y="6489720"/>
            <a:ext cx="59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7680240" y="648972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2895480" y="6248520"/>
            <a:ext cx="525600" cy="334440"/>
            <a:chOff x="2895480" y="6248520"/>
            <a:chExt cx="525600" cy="334440"/>
          </a:xfrm>
        </p:grpSpPr>
        <p:sp>
          <p:nvSpPr>
            <p:cNvPr id="819" name=""/>
            <p:cNvSpPr/>
            <p:nvPr/>
          </p:nvSpPr>
          <p:spPr>
            <a:xfrm>
              <a:off x="3089520" y="6248520"/>
              <a:ext cx="137520" cy="31536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282840" y="6261120"/>
              <a:ext cx="138240" cy="31536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895480" y="6267240"/>
              <a:ext cx="138240" cy="31572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2" name=""/>
          <p:cNvSpPr/>
          <p:nvPr/>
        </p:nvSpPr>
        <p:spPr>
          <a:xfrm>
            <a:off x="5499000" y="6489720"/>
            <a:ext cx="297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8628120" y="648972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124160" y="6049800"/>
            <a:ext cx="47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5024160" y="6019920"/>
            <a:ext cx="48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5774400" y="602460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437520" y="606276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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7325640" y="6062760"/>
            <a:ext cx="30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8213400" y="6056280"/>
            <a:ext cx="3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429000" y="6489720"/>
            <a:ext cx="617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638680" y="4191120"/>
            <a:ext cx="29700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8001000" y="4191120"/>
            <a:ext cx="297000" cy="0"/>
          </a:xfrm>
          <a:prstGeom prst="line">
            <a:avLst/>
          </a:prstGeom>
          <a:ln cap="rnd" w="9360">
            <a:solidFill>
              <a:srgbClr val="ffff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666880" y="3505320"/>
            <a:ext cx="1524240" cy="457200"/>
          </a:xfrm>
          <a:prstGeom prst="uturnArrow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2819520" y="4191120"/>
            <a:ext cx="2361960" cy="304560"/>
          </a:xfrm>
          <a:prstGeom prst="blockArc">
            <a:avLst>
              <a:gd name="adj1" fmla="val 10008896"/>
              <a:gd name="adj2" fmla="val 791104"/>
              <a:gd name="adj3" fmla="val 15764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2895480" y="4191120"/>
            <a:ext cx="3124440" cy="380880"/>
          </a:xfrm>
          <a:prstGeom prst="blockArc">
            <a:avLst>
              <a:gd name="adj1" fmla="val 10008896"/>
              <a:gd name="adj2" fmla="val 791104"/>
              <a:gd name="adj3" fmla="val 15764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V="1" rot="21539400">
            <a:off x="3354120" y="4186080"/>
            <a:ext cx="4951440" cy="457200"/>
          </a:xfrm>
          <a:prstGeom prst="blockArc">
            <a:avLst>
              <a:gd name="adj1" fmla="val 10008896"/>
              <a:gd name="adj2" fmla="val 791104"/>
              <a:gd name="adj3" fmla="val 15764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064040" y="5259240"/>
            <a:ext cx="415800" cy="1936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796000" y="5268960"/>
            <a:ext cx="414360" cy="1936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8213760" y="5268960"/>
            <a:ext cx="414360" cy="1936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7264440" y="5268960"/>
            <a:ext cx="415800" cy="1936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388200" y="5268960"/>
            <a:ext cx="414360" cy="1936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084640" y="5268960"/>
            <a:ext cx="414360" cy="1936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286000" y="5337000"/>
            <a:ext cx="59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491000" y="5346720"/>
            <a:ext cx="59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680240" y="534672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2903400" y="5135400"/>
            <a:ext cx="525600" cy="334800"/>
            <a:chOff x="2903400" y="5135400"/>
            <a:chExt cx="525600" cy="334800"/>
          </a:xfrm>
        </p:grpSpPr>
        <p:sp>
          <p:nvSpPr>
            <p:cNvPr id="847" name=""/>
            <p:cNvSpPr/>
            <p:nvPr/>
          </p:nvSpPr>
          <p:spPr>
            <a:xfrm>
              <a:off x="3097440" y="5135400"/>
              <a:ext cx="137520" cy="31572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290760" y="5148000"/>
              <a:ext cx="138240" cy="31572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903400" y="5154120"/>
              <a:ext cx="138240" cy="31608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0" name=""/>
          <p:cNvSpPr/>
          <p:nvPr/>
        </p:nvSpPr>
        <p:spPr>
          <a:xfrm>
            <a:off x="8628120" y="534672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5130720" y="5364000"/>
            <a:ext cx="297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842080" y="5364000"/>
            <a:ext cx="296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124160" y="4906800"/>
            <a:ext cx="47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024160" y="4876920"/>
            <a:ext cx="48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774400" y="488160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437520" y="491976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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325640" y="4919760"/>
            <a:ext cx="30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8213400" y="4913280"/>
            <a:ext cx="3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429000" y="5346720"/>
            <a:ext cx="617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8229600" y="5397480"/>
            <a:ext cx="29700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flipV="1" rot="21539400">
            <a:off x="3047760" y="5415120"/>
            <a:ext cx="5560920" cy="457200"/>
          </a:xfrm>
          <a:prstGeom prst="blockArc">
            <a:avLst>
              <a:gd name="adj1" fmla="val 10008896"/>
              <a:gd name="adj2" fmla="val 791104"/>
              <a:gd name="adj3" fmla="val 15764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2819520" y="5334120"/>
            <a:ext cx="3124080" cy="380880"/>
          </a:xfrm>
          <a:prstGeom prst="blockArc">
            <a:avLst>
              <a:gd name="adj1" fmla="val 10008896"/>
              <a:gd name="adj2" fmla="val 791104"/>
              <a:gd name="adj3" fmla="val 1576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315200" y="6527880"/>
            <a:ext cx="29700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8280360" y="6527880"/>
            <a:ext cx="297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V="1" rot="21526800">
            <a:off x="2819160" y="6476760"/>
            <a:ext cx="5943600" cy="624960"/>
          </a:xfrm>
          <a:prstGeom prst="blockArc">
            <a:avLst>
              <a:gd name="adj1" fmla="val 10008896"/>
              <a:gd name="adj2" fmla="val 791104"/>
              <a:gd name="adj3" fmla="val 1576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V="1" rot="21539400">
            <a:off x="2819160" y="6477120"/>
            <a:ext cx="5029200" cy="457200"/>
          </a:xfrm>
          <a:prstGeom prst="blockArc">
            <a:avLst>
              <a:gd name="adj1" fmla="val 10008896"/>
              <a:gd name="adj2" fmla="val 791104"/>
              <a:gd name="adj3" fmla="val 15764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19880" y="3921120"/>
            <a:ext cx="196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NA nell’embr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83240" y="5064120"/>
            <a:ext cx="13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NA nel f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36440" y="6207120"/>
            <a:ext cx="165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NA nell’adul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0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871" name="" descr=""/>
            <p:cNvPicPr/>
            <p:nvPr/>
          </p:nvPicPr>
          <p:blipFill>
            <a:blip r:embed="rId6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2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3429000" y="685800"/>
            <a:ext cx="5354640" cy="635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Controllo dei cluster globini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81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81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133720" y="1657440"/>
            <a:ext cx="5925960" cy="5657760"/>
          </a:xfrm>
          <a:prstGeom prst="rect">
            <a:avLst/>
          </a:prstGeom>
          <a:ln w="0">
            <a:noFill/>
          </a:ln>
        </p:spPr>
      </p:pic>
      <p:grpSp>
        <p:nvGrpSpPr>
          <p:cNvPr id="102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103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352680" y="685440"/>
            <a:ext cx="4592880" cy="8636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Il DNA mitocondri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81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51280" y="1697040"/>
            <a:ext cx="496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i solito in unica cop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320" y="2687760"/>
            <a:ext cx="9748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ossono appartenere a famiglie geniche originates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er duplicazione.In questo caso possono mantene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unzioni correlate e possono mappare nella stes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gione genom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3600" y="5334120"/>
            <a:ext cx="862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a funzione correlata non implica la sinte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505320" y="609120"/>
            <a:ext cx="3830400" cy="762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Il DNA codific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114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81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2840" y="1827360"/>
            <a:ext cx="30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GENI CHE CODIFIC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62880" y="1827360"/>
            <a:ext cx="248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RGANIZZ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01040" y="1801800"/>
            <a:ext cx="11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SEM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8400" y="263700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esso prodot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3889080" y="2590920"/>
            <a:ext cx="5984280" cy="374400"/>
            <a:chOff x="3889080" y="2590920"/>
            <a:chExt cx="5984280" cy="374400"/>
          </a:xfrm>
        </p:grpSpPr>
        <p:sp>
          <p:nvSpPr>
            <p:cNvPr id="124" name=""/>
            <p:cNvSpPr/>
            <p:nvPr/>
          </p:nvSpPr>
          <p:spPr>
            <a:xfrm>
              <a:off x="3889080" y="2597040"/>
              <a:ext cx="240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Spesso raggruppat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066800" y="2590920"/>
              <a:ext cx="280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geni per tRNA, istoni 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42200" y="3054240"/>
            <a:ext cx="318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soforme proteiche 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soenzimi tessuto-specifi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356640" y="3048120"/>
            <a:ext cx="6547320" cy="711000"/>
            <a:chOff x="3356640" y="3048120"/>
            <a:chExt cx="6547320" cy="711000"/>
          </a:xfrm>
        </p:grpSpPr>
        <p:sp>
          <p:nvSpPr>
            <p:cNvPr id="128" name=""/>
            <p:cNvSpPr/>
            <p:nvPr/>
          </p:nvSpPr>
          <p:spPr>
            <a:xfrm>
              <a:off x="3356640" y="3079800"/>
              <a:ext cx="2608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Talvolta raggruppat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talvolta non sintenic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214320" y="3048120"/>
              <a:ext cx="357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amilasi pancreatica e saliva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260760" y="3390840"/>
              <a:ext cx="364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a-actina scheletrica e cardia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10520" y="3962520"/>
            <a:ext cx="33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soenzimi specifici p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ifferenti comparti cellula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665880" y="3886200"/>
            <a:ext cx="6179040" cy="642600"/>
            <a:chOff x="3665880" y="3886200"/>
            <a:chExt cx="6179040" cy="642600"/>
          </a:xfrm>
        </p:grpSpPr>
        <p:sp>
          <p:nvSpPr>
            <p:cNvPr id="133" name=""/>
            <p:cNvSpPr/>
            <p:nvPr/>
          </p:nvSpPr>
          <p:spPr>
            <a:xfrm>
              <a:off x="3665880" y="3962520"/>
              <a:ext cx="265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Di solito non sintenic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506640" y="3886200"/>
              <a:ext cx="333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Aldeide deidrogenasi (9e1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Aconitasi(9e22)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149400" y="4756320"/>
            <a:ext cx="238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zimi della stess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via metabol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667320" y="4749840"/>
            <a:ext cx="26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i solito non sinteni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2280" y="570060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ubunita’ della stessa moleco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79920" y="5700600"/>
            <a:ext cx="26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i solito non sinteni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285240" y="5670720"/>
            <a:ext cx="368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atene dell’emoglobina 16 e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mmunoglobuline 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8280" y="6446880"/>
            <a:ext cx="24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igando e recet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81720" y="6440400"/>
            <a:ext cx="26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i solito non sinteni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143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437920" y="837720"/>
            <a:ext cx="4800600" cy="6858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Il DNA codific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81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9448920" cy="5850000"/>
          </a:xfrm>
          <a:prstGeom prst="rect">
            <a:avLst/>
          </a:prstGeom>
          <a:ln w="0">
            <a:noFill/>
          </a:ln>
        </p:spPr>
      </p:pic>
      <p:grpSp>
        <p:nvGrpSpPr>
          <p:cNvPr id="150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151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80720" y="609480"/>
            <a:ext cx="6040440" cy="711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truttura del DNA codific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81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158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257440" y="380520"/>
            <a:ext cx="4135320" cy="762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Geni dentro i ge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1200" y="1143000"/>
            <a:ext cx="887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eni all’interno di altri geni sono descritti per i genomi 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rganismi semplici e nei mitocondri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-5400" y="2133720"/>
            <a:ext cx="9981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ei mammiferi sono descritti geni contenuti nei grandi introni di alcuni gen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 differenza dei genomi piu’ semplici in questi casi spesso viene utilizzato 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ilamento opposto al gene “canonico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15360" y="3429000"/>
            <a:ext cx="898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F1: introne 27 (40Kb) contiene tre piccoli geni (2 esoni) che vengo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scritti dal filamento oppo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4040" y="4267080"/>
            <a:ext cx="9298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attore VIII della coagulazione F8C: introne 22 contiene due geni c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utilizzano la stessa isola CpG nelle due direzioni. Il gen F8A vie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scritto utilizzando il filamento opposto al F8C, mentre F8B non so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va nella stessa direzione, ma sintetizza un corto mRNA che ha un eso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uovo + gli esoni dal 23 al 26 di F8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4840" y="6134040"/>
            <a:ext cx="927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RB1: introne 17 (72Kb) contiene il gene per il recettore della proteina G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he viene trascritto in senso oppo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81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170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15000" y="533160"/>
            <a:ext cx="3733920" cy="6858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Geni dentro i geni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-4320" y="1797120"/>
            <a:ext cx="9757800" cy="2286000"/>
            <a:chOff x="-4320" y="1797120"/>
            <a:chExt cx="9757800" cy="2286000"/>
          </a:xfrm>
        </p:grpSpPr>
        <p:sp>
          <p:nvSpPr>
            <p:cNvPr id="177" name=""/>
            <p:cNvSpPr/>
            <p:nvPr/>
          </p:nvSpPr>
          <p:spPr>
            <a:xfrm>
              <a:off x="1063440" y="1928880"/>
              <a:ext cx="67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NF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514600" y="2559240"/>
              <a:ext cx="6477120" cy="2286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514600" y="3092400"/>
              <a:ext cx="6477120" cy="2286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048120" y="2559240"/>
              <a:ext cx="30456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305920" y="2559240"/>
              <a:ext cx="30456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32360" y="2452680"/>
              <a:ext cx="35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938080" y="2452680"/>
              <a:ext cx="35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48520" y="2241720"/>
              <a:ext cx="95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esone 2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998120" y="2254320"/>
              <a:ext cx="95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esone 2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642200" y="2108160"/>
              <a:ext cx="137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Introne 2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514600" y="2102040"/>
              <a:ext cx="1066680" cy="152280"/>
            </a:xfrm>
            <a:prstGeom prst="rightArrow">
              <a:avLst>
                <a:gd name="adj1" fmla="val 50000"/>
                <a:gd name="adj2" fmla="val 175118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848720" y="2102040"/>
              <a:ext cx="1066680" cy="152280"/>
            </a:xfrm>
            <a:prstGeom prst="rightArrow">
              <a:avLst>
                <a:gd name="adj1" fmla="val 50000"/>
                <a:gd name="adj2" fmla="val 175118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8360" y="2470320"/>
              <a:ext cx="184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Filamento di sens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-4320" y="301644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Filamento antisens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229480" y="3036960"/>
              <a:ext cx="35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938080" y="2978280"/>
              <a:ext cx="35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57600" y="3092400"/>
              <a:ext cx="152280" cy="2286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038480" y="3092400"/>
              <a:ext cx="76320" cy="2286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029200" y="3092400"/>
              <a:ext cx="152280" cy="2286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410080" y="3092400"/>
              <a:ext cx="76320" cy="2286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705720" y="3092400"/>
              <a:ext cx="152280" cy="2286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086600" y="3092400"/>
              <a:ext cx="76320" cy="2286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505320" y="3473640"/>
              <a:ext cx="685800" cy="152280"/>
            </a:xfrm>
            <a:prstGeom prst="leftArrow">
              <a:avLst>
                <a:gd name="adj1" fmla="val 50000"/>
                <a:gd name="adj2" fmla="val 112589"/>
              </a:avLst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76920" y="3473640"/>
              <a:ext cx="685800" cy="152280"/>
            </a:xfrm>
            <a:prstGeom prst="leftArrow">
              <a:avLst>
                <a:gd name="adj1" fmla="val 50000"/>
                <a:gd name="adj2" fmla="val 112589"/>
              </a:avLst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629400" y="3473640"/>
              <a:ext cx="685800" cy="152280"/>
            </a:xfrm>
            <a:prstGeom prst="leftArrow">
              <a:avLst>
                <a:gd name="adj1" fmla="val 50000"/>
                <a:gd name="adj2" fmla="val 112589"/>
              </a:avLst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411360" y="3616560"/>
              <a:ext cx="80712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OGM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2.2K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895280" y="3625920"/>
              <a:ext cx="7552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EVI2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10 K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616080" y="3625920"/>
              <a:ext cx="75996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EVI2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4 K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6320" y="1797120"/>
              <a:ext cx="9677160" cy="228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76320" y="4572000"/>
            <a:ext cx="9677160" cy="1676160"/>
            <a:chOff x="76320" y="4572000"/>
            <a:chExt cx="9677160" cy="1676160"/>
          </a:xfrm>
        </p:grpSpPr>
        <p:sp>
          <p:nvSpPr>
            <p:cNvPr id="207" name=""/>
            <p:cNvSpPr/>
            <p:nvPr/>
          </p:nvSpPr>
          <p:spPr>
            <a:xfrm>
              <a:off x="927360" y="5105160"/>
              <a:ext cx="46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F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514600" y="5181480"/>
              <a:ext cx="6477120" cy="2286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514600" y="5181480"/>
              <a:ext cx="15228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934320" y="5181480"/>
              <a:ext cx="15228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924680" y="5181480"/>
              <a:ext cx="15264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813880" y="5181480"/>
              <a:ext cx="15228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238880" y="5181480"/>
              <a:ext cx="228600" cy="228600"/>
            </a:xfrm>
            <a:custGeom>
              <a:avLst/>
              <a:gdLst>
                <a:gd name="textAreaLeft" fmla="*/ 52200 w 228600"/>
                <a:gd name="textAreaRight" fmla="*/ 176400 w 228600"/>
                <a:gd name="textAreaTop" fmla="*/ 52200 h 228600"/>
                <a:gd name="textAreaBottom" fmla="*/ 1764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dff7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315200" y="4876560"/>
              <a:ext cx="1523880" cy="152640"/>
            </a:xfrm>
            <a:prstGeom prst="rightArrow">
              <a:avLst>
                <a:gd name="adj1" fmla="val 50000"/>
                <a:gd name="adj2" fmla="val 249587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237080" y="4592520"/>
              <a:ext cx="59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F8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44400" y="53798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06800" y="537984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22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5960" y="537984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23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744760" y="537984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2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800600" y="47448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F8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019920" y="5790960"/>
              <a:ext cx="1218960" cy="152640"/>
            </a:xfrm>
            <a:prstGeom prst="leftArrow">
              <a:avLst>
                <a:gd name="adj1" fmla="val 50000"/>
                <a:gd name="adj2" fmla="val 19964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00ff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418440" y="5837040"/>
              <a:ext cx="59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F8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6400800" y="4876200"/>
              <a:ext cx="9144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850000" y="45720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p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6320" y="4572000"/>
              <a:ext cx="9677160" cy="1676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81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227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41240" y="660240"/>
            <a:ext cx="8250480" cy="30736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Famiglie multigenich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5T12:00:26Z</dcterms:created>
  <dc:creator>CMG</dc:creator>
  <dc:description/>
  <dc:language>en-US</dc:language>
  <cp:lastModifiedBy>Mariano Rocchi</cp:lastModifiedBy>
  <cp:lastPrinted>2000-04-11T15:44:35Z</cp:lastPrinted>
  <dcterms:modified xsi:type="dcterms:W3CDTF">2004-03-23T18:05:38Z</dcterms:modified>
  <cp:revision>447</cp:revision>
  <dc:subject/>
  <dc:title>Geen diatitel</dc:title>
</cp:coreProperties>
</file>